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CD20-6E9C-4B91-A93A-0F17D6F5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EE2-EA97-413F-BAA1-0E49F740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70A-9590-4CE6-A3E3-9E694899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FDE-1E4B-419E-9B5B-66A13023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8C49-985B-4606-BDC2-BC82AF19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0C5-8954-45BC-8D17-55F75DB9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77F-A3AA-4013-A657-7FC860B7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F0D-BFEC-429A-95AC-08D1BF7C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EAD-440A-4214-A691-F1C65EE9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4E5-9D99-42BD-8DFB-ADC67CCC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FA53-D80B-4B8C-A550-B1868B36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566-9FED-4B05-BA1E-3AD9031A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7A6B-65C6-4080-B5F6-4F645C80E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24720" cy="63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07272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90440"/>
            <a:ext cx="888984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28360" cy="73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6T05:32:11Z</dcterms:created>
  <dc:creator>01690112</dc:creator>
  <dc:description/>
  <dc:language>en-US</dc:language>
  <cp:lastModifiedBy>01690112</cp:lastModifiedBy>
  <dcterms:modified xsi:type="dcterms:W3CDTF">2009-06-26T05:37:27Z</dcterms:modified>
  <cp:revision>2</cp:revision>
  <dc:subject/>
  <dc:title>Slide 1</dc:title>
</cp:coreProperties>
</file>